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308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725F-916F-4613-8825-92A50411755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E996-0779-4A87-9B07-9EE77408D05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An der Tafel vorrechn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00000" y="720720"/>
            <a:ext cx="511812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Hier sollte in zukunft auch wieder ein Studienberater für ausländische Studierende s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instufungstest für Englisch, Französisch &amp; Spanis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nglisch: 08.10.2008 von 10.00 - 17.00 U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(zu jeder vollen Stunde, ausser zwischen 13.00 - 14.00 Uhr - Pause 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Gebäude A12, Raum 5, 9 und 18 (Erdgeschoss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Französisch: 09.10.2008 (Zeit und Raum folgt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panisch: 09.10.2008 (Zeit und Raum folg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rkus nach update f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Prüfgen ob das noch gültig ist. Weiss wahrscheinlich auch mark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3B1A-050F-4AD5-A080-6088F234CDE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Ende der Gültigkeit: siehe ablösende SPO (derzeit noch in Entwicklung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Tipp: SPO herunterladen, ausdrucken, abheften, durchfli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L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Zum zeitpunkt der folie ist wahrscheinlich schon florian raus und simone drinnen... aufteilung nach normal und nachrück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immt das no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Hier fehlt noch ein ei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vielleicht stellt mann noch kurz die räaumlichkeiten vor (am besten vor der begehung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76824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6480" cy="3819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8320" y="6340320"/>
            <a:ext cx="41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Verdana"/>
              </a:rPr>
              <a:t>Erstsemestereinführung Wintersemester 08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Verdana"/>
              </a:rPr>
              <a:t>Hochschule Darmstadt, Fachbereich Informa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semestereinführung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intersemester 08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5080" y="2492280"/>
            <a:ext cx="59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92929"/>
                </a:solidFill>
                <a:latin typeface="Verdana"/>
              </a:rPr>
              <a:t>Herzlich Willkomm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schlussbe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1800" y="312588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helor of Science (B.Sc.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7600" y="2075040"/>
            <a:ext cx="832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ie Endnote setzt sich aus den gewichteten Modulnoten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 zusa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odulnote für das Praxismodul zählt hierbei 0.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odulnote für die Abschlußarbeit mit Kolloquium zählt 2.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odule sind Lehrveranstaltungen mit Prüfungsleis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ndnote und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77880" y="2075040"/>
            <a:ext cx="77180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CTS - European Credit Transf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istungspunktesystem a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ntspricht dem Gesamtaufwand einer Veranstaltung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 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(inkl. Vorbereitung, Anwesenheit, Nachbereitung, Prüfungsvorbereitung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tellt den Gewichtungsfaktor für die Endnotenbe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1 ECTS = 25-30 Arbeitsstunden im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WS – Semesterwochenst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ntspricht der Präsenzaufwand an der Hoch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1 SWS = 45 Minuten/Woche im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in Semester entspricht 30 ECTS, dies entspricht ca. 750-900 Arbeitsstunden.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lesungszeit dauert ca. 95 Tage (19 Wochen) pro Sem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rgo ca. </a:t>
            </a: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8 Stunden/Tag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Studium während der Vorlesungsz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CTS vs. SW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eit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2144880"/>
            <a:ext cx="3844800" cy="419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ewichtung der Module/Bachelor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160720"/>
            <a:ext cx="1440" cy="2060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5680" y="3060720"/>
            <a:ext cx="1985760" cy="1160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695320" y="4216320"/>
            <a:ext cx="2025720" cy="94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695680" y="4216320"/>
            <a:ext cx="250560" cy="220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33480" y="4216320"/>
            <a:ext cx="1766880" cy="141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600360"/>
            <a:ext cx="2160720" cy="62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4160" y="19890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944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1440" y="5877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3440" y="5950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2360" y="458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2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00720" y="2212920"/>
            <a:ext cx="3448080" cy="336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00720" y="2232000"/>
            <a:ext cx="1440" cy="1511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00720" y="3887640"/>
            <a:ext cx="1440" cy="11257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00720" y="5075280"/>
            <a:ext cx="1440" cy="323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20000" y="2232000"/>
            <a:ext cx="1800" cy="971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20000" y="3240000"/>
            <a:ext cx="1800" cy="1008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91640" y="4140360"/>
            <a:ext cx="1440" cy="8650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2124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4968720"/>
            <a:ext cx="30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78144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83640" y="2124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83640" y="3132000"/>
            <a:ext cx="30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37640" y="409896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20000" y="5040360"/>
            <a:ext cx="1800" cy="3603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4560" y="492768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rechnung der Endnote (Beispiel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800" y="2075040"/>
            <a:ext cx="62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unserem Beispiel soll es nur drei Module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er 1 (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(7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 (2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 1; No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; Note 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; Note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9840" y="5084640"/>
            <a:ext cx="555588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Endnote: (5 * 3,0 + 7,5 * 1,7 + 2,5 * 1,3) / 15 = </a:t>
            </a:r>
            <a:r>
              <a:rPr b="1" lang="de-DE" sz="1800" spc="-1" strike="noStrike">
                <a:solidFill>
                  <a:srgbClr val="292929"/>
                </a:solidFill>
                <a:latin typeface="Verdana"/>
              </a:rPr>
              <a:t>2,0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Masterzulassung? Endnote &lt;=2,0? 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(&gt;2,0 Einzelfallentscheidung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rechnung der Endnote (Beispiel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800" y="2075040"/>
            <a:ext cx="62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unserem Beispiel soll es nur drei Module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er 1 (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(7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 (2,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thematik für Informatik 1; Note 3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; Note 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IT-Recht; Note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38640" y="2075040"/>
            <a:ext cx="717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zelne Lehrveranstaltungen besitzen Zulassungs-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aussetzungen zur Teilnah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Teilnahme an bestimm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rfolgreicher Abschluss von bestimm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hrveranstaltungsbegleitende Praktika müssen generell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folgreich abgeschlossen werden, bevor die zugehörige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 angetret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2421000"/>
            <a:ext cx="1295280" cy="35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2421000"/>
            <a:ext cx="1295640" cy="360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6560" y="3068640"/>
            <a:ext cx="1297080" cy="3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421000"/>
            <a:ext cx="1295280" cy="1152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637000"/>
            <a:ext cx="431640" cy="4316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2421000"/>
            <a:ext cx="129852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124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1240" y="2637000"/>
            <a:ext cx="433440" cy="431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5084640"/>
            <a:ext cx="432000" cy="4320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5661000"/>
            <a:ext cx="4334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5280" y="5151600"/>
            <a:ext cx="41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üfung begonnen (nicht zwingend bestanden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5707080"/>
            <a:ext cx="31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üfung abgeschlossen (bestanden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1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52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2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52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3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4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3716280"/>
            <a:ext cx="1295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50028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285264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2205000"/>
            <a:ext cx="43200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2421000"/>
            <a:ext cx="1295640" cy="360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205000"/>
            <a:ext cx="43344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8360" y="2637000"/>
            <a:ext cx="433440" cy="431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65960" y="198900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5.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7920" y="2060640"/>
            <a:ext cx="788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05 ECTS aus Modulen des ersten Studienabschnitts (1.-4. Sem.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x. 15 ECTS aus 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bereitungsseminar für die Praxisphase muss absolviert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Zulassung zum Bachelor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8480" y="4503600"/>
            <a:ext cx="785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 #1: Jedes Semester findet eine Informationsveranstaltung z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achelorprojekt stat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 #2: Bemüht Euch frühzeitig um Euren Wunschbetreuer (Wer zuerst komm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ahlt zuerst!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7080" y="2060640"/>
            <a:ext cx="6299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m 4. und 5. Semester (jeweils 15 ECTS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jede Veranstaltung jedes Semes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pplication Engineering, Technische Informatik,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   Telekommunikation, Wirtschafts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öglichkeit der Vertiefung in einem Fach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in. 30 ECTS aus einer Vertiefungs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achelor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ahlpflicht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uß vor Zeugniserstellung beantra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ahlpflichtveranstaltungen und Vertie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er sind w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040" y="2075040"/>
            <a:ext cx="807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u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 Studienber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eMail: studienberatung@fbihome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Manuel Olbrich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lgemeiner Studiengang 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hilip Heck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Kooperativer Studiengang Infor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Franky Akan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tudienberater für ausländische Studi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28840"/>
            <a:ext cx="842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terdisziplinäre Ausrichtung (über den Tellerrand schau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sychologie, Sprachen, Wirtschaft, Politik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m 1.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sangebot unter http://www.fbsuk.h-d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sbeginn: </a:t>
            </a: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9.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stufungstests für Englischkurse: </a:t>
            </a: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8.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http://www.suk.h-da.de/index.php?id=aktuelles-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prachkurse Stufen A1 und A2 erbringen keine ECTS-Punk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Bachelor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ozial- und Kulturwiss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060640"/>
            <a:ext cx="71798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ückme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nnerhalb der letzten ca. 6 Wochen des vorherigen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Überweisung des Semesterbeitrages an die Hochsc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en be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nnerhalb der letzten zwei Wochen vor Vorlesungsbeg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Veranstaltungen auswä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ste Vorles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jeder Veranstaltung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Termin siehe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Fehlen heißt Platzverz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(Restplatzbelegung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Erste zwei Vorlesungswo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Veranstaltungen auswä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anfang - Tei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anfang - Tei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0" y="1989000"/>
            <a:ext cx="79282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uK-Veranstaltung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Termin siehe Vorlesungsverzeichnis SuK bzw. erster regulärer Ter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te SuK-Veranstaltung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Ca. ersten 3-4 Vorlesungswo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5120" y="2060640"/>
            <a:ext cx="325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en be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ka teil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ährend des Sem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076640"/>
            <a:ext cx="8642160" cy="201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nche Veranstaltungen finden nicht jede Woche stat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für gibt es am Fachbereich ei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x/y-Rast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lches ungefähr wöchentlich wechs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sicht bei Feierta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WW: Fachbereichssei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undenplan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schiedenes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x/y-R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7680" y="2060640"/>
            <a:ext cx="788256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en an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Bis drei Wochen vor Vorlesungszeitende (Genauer Termin siehe OBS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 anme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(Prüfung abmeld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pätester Termin siehe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 teil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ergebnis ab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pätestens vier Wochen nach Prü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Im Onlinebeleg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blauf eines Semesters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7240" y="2060640"/>
            <a:ext cx="662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adresse: https://obs.fbi.h-d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zw. Fachbereichsseite </a:t>
            </a:r>
            <a:r>
              <a:rPr b="0" lang="de-DE" sz="20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 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ung von Veranstal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meldung zu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melden vo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istungsüber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ersönlicher Terminplan und Stunden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ogin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210360" cy="3686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9600" y="5537160"/>
            <a:ext cx="85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rikelnummer ist Benutzername, Passwort initial das Geburtsdatum: 09.12.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4508640"/>
            <a:ext cx="93672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4221000"/>
            <a:ext cx="936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036000" cy="233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legen von Veranstaltungen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8600" y="4286160"/>
            <a:ext cx="8022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legen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V+P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Vorlesung und Praktikum belegen, nur V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nur Vorlesung (nur Wiederholer!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riorität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Aufsteigend angeben. Keine Zahlenwiederhol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Wunschpartner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Matrikelnr des Praktikumspartners. Gegenseitig sich eintrag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Termin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Tag, Block, eventuelles R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tart Vorlesung/Start Praktikum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: Erste Vorlesung. Keine Angabe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Erster regulärer Termi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916280"/>
            <a:ext cx="649440" cy="20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916280"/>
            <a:ext cx="647640" cy="20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076640"/>
            <a:ext cx="64944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734080"/>
            <a:ext cx="68407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chtung!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gtreu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elegen! Sons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eine Platzgaranti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0584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meldung zu Leistungsnach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565360"/>
            <a:ext cx="86364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565360"/>
            <a:ext cx="108108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877000"/>
            <a:ext cx="792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565360"/>
            <a:ext cx="79200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9640" y="3102120"/>
            <a:ext cx="7524720" cy="10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Onlinebelegsystem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bmelden von Leistungsnachw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3913200"/>
            <a:ext cx="1441440" cy="21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121200"/>
            <a:ext cx="79236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121200"/>
            <a:ext cx="10810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3121200"/>
            <a:ext cx="10810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3121200"/>
            <a:ext cx="93672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Die nächsten 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" y="2075040"/>
            <a:ext cx="5608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gemeine Informationen über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tudien- und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Zuständ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Räum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ben al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en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Professoren stellen sich 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ahl der Men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anstaltungen/Dozentenbü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3994" r="0" b="0"/>
          <a:stretch/>
        </p:blipFill>
        <p:spPr>
          <a:xfrm>
            <a:off x="1428840" y="1214280"/>
            <a:ext cx="7458120" cy="514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4760" y="2736720"/>
            <a:ext cx="1219320" cy="2195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4680" y="1133640"/>
            <a:ext cx="1469880" cy="118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370480" y="5541840"/>
            <a:ext cx="1255680" cy="822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785000" y="3371760"/>
            <a:ext cx="846360" cy="1071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7259760" y="4297320"/>
            <a:ext cx="154296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400960" cy="49068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1925640" y="3297240"/>
            <a:ext cx="1390680" cy="1330200"/>
            <a:chOff x="1925640" y="3297240"/>
            <a:chExt cx="1390680" cy="13302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925640" y="3297240"/>
              <a:ext cx="13906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21000000">
              <a:off x="2125800" y="3508200"/>
              <a:ext cx="9889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315120" y="5626080"/>
            <a:ext cx="755640" cy="603360"/>
            <a:chOff x="6315120" y="5626080"/>
            <a:chExt cx="755640" cy="6033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6315120" y="5626080"/>
              <a:ext cx="7556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1000000">
              <a:off x="6458040" y="5793840"/>
              <a:ext cx="4618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71720" y="2230560"/>
            <a:ext cx="762120" cy="604800"/>
            <a:chOff x="2871720" y="2230560"/>
            <a:chExt cx="762120" cy="604800"/>
          </a:xfrm>
        </p:grpSpPr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2871720" y="2230560"/>
              <a:ext cx="762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1000000">
              <a:off x="3016080" y="2398680"/>
              <a:ext cx="463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444680" y="2084400"/>
            <a:ext cx="633240" cy="585720"/>
            <a:chOff x="1444680" y="2084400"/>
            <a:chExt cx="633240" cy="585720"/>
          </a:xfrm>
        </p:grpSpPr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>
              <a:off x="1444680" y="2084400"/>
              <a:ext cx="6332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21000000">
              <a:off x="1590480" y="2246400"/>
              <a:ext cx="334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6520" y="5230800"/>
            <a:ext cx="487440" cy="463680"/>
            <a:chOff x="8156520" y="5230800"/>
            <a:chExt cx="487440" cy="463680"/>
          </a:xfrm>
        </p:grpSpPr>
        <p:pic>
          <p:nvPicPr>
            <p:cNvPr id="204" name="" descr=""/>
            <p:cNvPicPr/>
            <p:nvPr/>
          </p:nvPicPr>
          <p:blipFill>
            <a:blip r:embed="rId6"/>
            <a:stretch/>
          </p:blipFill>
          <p:spPr>
            <a:xfrm>
              <a:off x="8156520" y="5230800"/>
              <a:ext cx="487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1000000">
              <a:off x="8295840" y="5378400"/>
              <a:ext cx="2001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sen in der M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9280" y="2060640"/>
            <a:ext cx="48650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 Mensen auf Campus Darmst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chöfferstraße (neben Hochhaus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Haardtring (im Verwaltungsgebäude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zahlung Bar/Prepaid-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3860640"/>
            <a:ext cx="89280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ipp #1: An der richtigen Theke anstellen. Nicht am Ende der Schlange von Theke 1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ipp #2: Nutzt Freiblöcke zum Essen gehen! Um 13:30 ist es brechend vo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rkpl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757520"/>
            <a:ext cx="8496000" cy="3342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68200" y="4005360"/>
            <a:ext cx="1352520" cy="1120680"/>
            <a:chOff x="268200" y="4005360"/>
            <a:chExt cx="1352520" cy="112068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68200" y="4005360"/>
              <a:ext cx="1352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21000000">
              <a:off x="447840" y="4217760"/>
              <a:ext cx="988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517840" y="3524400"/>
            <a:ext cx="822240" cy="1596960"/>
            <a:chOff x="2517840" y="3524400"/>
            <a:chExt cx="822240" cy="159696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2517840" y="3524400"/>
              <a:ext cx="82224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 rot="21000000">
              <a:off x="2754360" y="3676680"/>
              <a:ext cx="3492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017880" y="3713040"/>
            <a:ext cx="663480" cy="1150920"/>
            <a:chOff x="3017880" y="3713040"/>
            <a:chExt cx="663480" cy="1150920"/>
          </a:xfrm>
        </p:grpSpPr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3017880" y="3713040"/>
              <a:ext cx="663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1000000">
              <a:off x="3212640" y="3860640"/>
              <a:ext cx="2635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566040" y="1798560"/>
            <a:ext cx="2340000" cy="1498680"/>
            <a:chOff x="6566040" y="1798560"/>
            <a:chExt cx="2340000" cy="1498680"/>
          </a:xfrm>
        </p:grpSpPr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6566040" y="1798560"/>
              <a:ext cx="2340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21000000">
              <a:off x="6757920" y="2095200"/>
              <a:ext cx="195444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rken auf dem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3280" y="2060640"/>
            <a:ext cx="778644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s gibt viel zu wenig Parkpl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In der zweiten und dritten Reihe parken ist üb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chtung! Dann aber kein Gang und keine Handbrem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chtung! Mit Dellen und Kratzer muss man rech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olitessen sind fleiß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Wer auf der Straße im Halteverbot steht wird abgeschle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Wer auf der Straße im Parkverbot steht bekommt Strafze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Campus Darmstadt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onsti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3994" r="0" b="0"/>
          <a:stretch/>
        </p:blipFill>
        <p:spPr>
          <a:xfrm>
            <a:off x="1428840" y="1214280"/>
            <a:ext cx="7458120" cy="5148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896000" y="2736720"/>
            <a:ext cx="1077840" cy="2011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444680" y="1133640"/>
            <a:ext cx="1469880" cy="1188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834080" y="4937040"/>
            <a:ext cx="1811160" cy="7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Öffentlicher Verkehr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MV-Ti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00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ültig im gesamten RMV-Geb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ptional zzgl. VRN (+120,00 €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ptional zzgl. RNN (+133,00 €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kehr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raßen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U- und S-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egionalb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adt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egional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Verdana"/>
              </a:rPr>
              <a:t>Kei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chtung #1! RMV-Ticket/Studierendenausweis nur gültig mit Lichtbildausw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chtung #2! Studierendenausweis nicht einschweißen, einkleben, o.ä.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s Kino: Film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7520" y="2060640"/>
            <a:ext cx="555984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: http://www.filmkreis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dimaxx, TU Stadtm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ginn regulär um 20:00, Einlass 19: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ilmkreisausweis 1,50 € (1 Jahr gültig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tritt regulär 2,00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Verdana"/>
              </a:rPr>
              <a:t>Ausschließlich Studieren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n der Baustelle 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U Stadtmitte nicht irritieren lass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12000" y="2006640"/>
            <a:ext cx="2789280" cy="192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35680" y="4221000"/>
            <a:ext cx="38941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mnäch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18.03.08 um 20:00 </a:t>
            </a: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hoot 'E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.04.08 um 20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tatoui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ril: Hot Fuzz, Die Simpsons – Der Film, Death Proof &amp; Planet T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armstädter K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6440" y="2060640"/>
            <a:ext cx="841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mäßigung auf Kinokarten in den Darmstädter K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Cinema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H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m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grammkino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rmäßigung nicht kumulativ. Nicht auf Sonderveranstalt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rendenausweis notwend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aatstheater Darmst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000" y="2060640"/>
            <a:ext cx="800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ostenloser Eintritt. (Nur Studierende der h_da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e Veranstaltungen, alle Plät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genommen Premieren und Sonderveranstaltu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is zu 3 Tage vor Vorstellung an der Abendk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otwendig: Studierendenausweis beim Abholen der Kar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d beim Besuch der Vorstell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Die Studien- und Prüfungsordnung (SPO)</a:t>
            </a: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5520" y="2075040"/>
            <a:ext cx="7533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esetzeswerk für den entsprechenden Studieng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ktuell: SPO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findet sich auf der Fachbereichs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Organisation </a:t>
            </a:r>
            <a:r>
              <a:rPr b="0" lang="de-DE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 Gremien &amp; Ausschüsse </a:t>
            </a:r>
            <a:r>
              <a:rPr b="0" lang="de-DE" sz="18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 Prüfungsaussch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fgeteil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Allgemeine (hochschulweite) Bestimmungen (ABPO2006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achelor Bestimmungen (BBPO2007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ntwickelt vom Studienaussch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Überwacht vom Prüfungsausschu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Spaß und Vergnü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Hochschul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3280" y="2060640"/>
            <a:ext cx="81252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Web: http://www.hsz-tud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Teilnahme am gesamten Hochschulsportprogra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von Aikido bis Yoga (Semesterprogramm siehe WWW &amp; Fachschaft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fast alle Angebote kostenlos (Ausnahmen z.B. Sportbootführerscheine)</a:t>
            </a: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kostenlose Freibadnu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bei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1440" y="2060640"/>
            <a:ext cx="631908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esterbei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ca. 150 €/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RMV-Semesterti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tudentenwerk (Mensa, Wohnheime, Kindergarten, etc.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Selbst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50 €/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  <a:ea typeface="DejaVu Sans"/>
              </a:rPr>
              <a:t>Verwaltungspauschale Hochsc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2200" y="2060640"/>
            <a:ext cx="7275960" cy="29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 im Web: http://www.bafoeg.bmbf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-Hotline: 0800-2236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AFöG heißt: 50% Zuschuss, 50% Darlehen.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Zusätzlich bei rascher Rückerstattung, gutem Abschluss in kurzer Zei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eduzierung des zurück zu bezahlenden Darleh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her Ausbildung und gearbeitet? Elternunabhängiges BAFö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ipp: Man darf auch was verdienen und bekommt trotzdem BAFö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Geld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720" y="1916280"/>
            <a:ext cx="78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ehr Infos im Web. Z.B. http://www.uni-pur.de/arbeiten_als_student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2421000"/>
            <a:ext cx="8228160" cy="3797280"/>
            <a:chOff x="457200" y="2421000"/>
            <a:chExt cx="8228160" cy="3797280"/>
          </a:xfrm>
        </p:grpSpPr>
        <p:sp>
          <p:nvSpPr>
            <p:cNvPr id="249" name=""/>
            <p:cNvSpPr/>
            <p:nvPr/>
          </p:nvSpPr>
          <p:spPr>
            <a:xfrm>
              <a:off x="457200" y="2421000"/>
              <a:ext cx="1306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63640" y="2421000"/>
              <a:ext cx="1676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ntge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01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öchentli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rbeitsze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79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hnsteuerk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5760" y="2421000"/>
              <a:ext cx="174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997360"/>
              <a:ext cx="130644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erkstu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63640" y="2997360"/>
              <a:ext cx="16765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01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is 20h/Wo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79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icht notwendig, aber ratsa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35760" y="299736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9,75% RentenV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ohnsteu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4070520"/>
              <a:ext cx="130644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Geringfügig Beschäftig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3640" y="4070520"/>
              <a:ext cx="16765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is 400 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401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Arbeitszeitprotokoll notwendig)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79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icht notwendig,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ber ratsa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5760" y="4070520"/>
              <a:ext cx="17478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e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5143680"/>
              <a:ext cx="130644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Gleitz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63640" y="5143680"/>
              <a:ext cx="167652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00,01€ bis 800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ax. 9600€/Jah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401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lieb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79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otwend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5760" y="5143680"/>
              <a:ext cx="174780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-21% von Brut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63640" y="2421000"/>
              <a:ext cx="180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401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79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5760" y="2421000"/>
              <a:ext cx="1440" cy="37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299736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407052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5143680"/>
              <a:ext cx="822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2421000"/>
              <a:ext cx="1440" cy="37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83560" y="2421000"/>
              <a:ext cx="1800" cy="37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" y="2421000"/>
              <a:ext cx="8226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6216480"/>
              <a:ext cx="8226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877080" y="6237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ohne Gewäh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ktive Fach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2480" y="2060640"/>
            <a:ext cx="72226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aum D14/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entische Anlaufstelle bei Fragen und Nöten (fast) jeder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entische Vertretung in Gremien und Aussch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Ehrenam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entische Studienber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02280" y="2060640"/>
            <a:ext cx="5785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aum D14/2.06, bzw. D14/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hilip Heck, Manuel Olb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Anlaufstelle bei Fragen und Nöten (fast) jeder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Prikäre Probleme im Stu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eka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0880" y="2060640"/>
            <a:ext cx="350856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H.P. Wie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S. Karcze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Pro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L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Studiende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003640" y="458136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114300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ngangskoordinator Bach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0320" y="2060640"/>
            <a:ext cx="7097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Thomas Hor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1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rund um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erkennung von Leistungen an andere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03640" y="1908000"/>
            <a:ext cx="1143000" cy="14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udiengangskoordinator Bachelor (KoSI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0320" y="2060640"/>
            <a:ext cx="7097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Kas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rund um das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erkennung von Leistungen an anderen Hochsch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ausschuss (Vorsitzende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5160" y="2060640"/>
            <a:ext cx="4815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Steffen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mit der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Einspruch gegen Klausur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nträge bei Fehlen a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976640" y="1800360"/>
            <a:ext cx="11430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Lehrveranstal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5760" y="2075040"/>
            <a:ext cx="786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orle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ozent vermittelt über Vortrag Leh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 (Anwesenheitspflich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Vorwiegend über Beiträge der Studierende erbrachter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h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Ü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urcharbeiten von Lehrstoff anhand von exemplarischen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Beispielen (i.d.R. Einzel- oder Gruppenarbei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kum (Anwesenheitspflicht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ösen von exemplarischen praktischen Aufgabenstel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ausschuss (stud. Mitgliede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5680" y="2060640"/>
            <a:ext cx="62031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anuel Olbrich, Markus Kalb, Florian Schl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mit der Prüfungs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lands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880" y="2060640"/>
            <a:ext cx="56653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B. Harrie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lles rund um Studium und Au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uslands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xisphase im Au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Gaststudent von ausländischer Hoch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trauensdozent für ausländische Studie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9560" y="2060640"/>
            <a:ext cx="7320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W.-D. Gr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als Ausländer an der Hochschule/Fachbereich, </a:t>
            </a:r>
            <a:br>
              <a:rPr sz="20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it dem Stu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OS-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8960" y="2060640"/>
            <a:ext cx="70718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B. Kr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5/2.0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ragen und Probleme rund um das Onlinebeleg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013360" y="1916280"/>
            <a:ext cx="1143000" cy="866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AFöG-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6640" y="2060640"/>
            <a:ext cx="6300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f. Dr. K. F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3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scheinigungen von der Hochschule für BAFö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Who is Who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üfungssek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3440" y="2060640"/>
            <a:ext cx="55008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. van B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</a:rPr>
              <a:t>Raum D14/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obleme bei Notenein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glaubigter Leistungsnach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Diverse Formulare (z.B. Krankmeldungen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rankheit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800" y="2432160"/>
            <a:ext cx="8079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m Tag der Prüfung oder vorher ärztliche Bescheinigung über </a:t>
            </a:r>
            <a:br>
              <a:rPr sz="1600"/>
            </a:b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Prüfungsunfähigkeit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beim Arzt besorgen.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sstellungsdatum darf nicht nach Prüfungsdatum lie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Innerhalb von </a:t>
            </a: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3 Arbeitstagen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nach Prüfung im Prüfungssekretariat (D14/0.10)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ntrag auf Wiederholung einer Prüfungsleistung mit ärztlicher Bescheinigung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bgeben, Abgabe bestätigen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rlaubssemester beantrag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Nächstmögliche Prüfung muss wahrgenommen werd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979640" y="0"/>
            <a:ext cx="7164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Verspätung öffentliche Verkehrsmittel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4160" y="2432160"/>
            <a:ext cx="79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vom Verkehrsunternehmen schriftlich bestätigen lassen und mit dieser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escheinigung zur Hochschule gehen und gleich beim Prüfer ab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im Prüfungssekretariat (D14/0.10) Antrag auf Wiederholung einer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ungsleistung stellen, Abgabe bestätigen lass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Krankheit bei Prakt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360" y="2432160"/>
            <a:ext cx="858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Praktikumspartner informieren (dieser muss am Praktikumstermin 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eilnehmen!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ofort Dozent informieren (per eMail) und um Möglichkeit zum Nachholen b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ch hier sollte man eine ärztliche Bescheinigung ha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Verdana"/>
              </a:rPr>
              <a:t>Achtung!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 Ausreden eines Praktikumsteilnehmers, dass Unterlagen beim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eien, zählen nich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4437000"/>
            <a:ext cx="84247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angwierige Krankheit, Prüfungsang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3320" y="2432160"/>
            <a:ext cx="8228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it Mentor und/oder studentischer Studienberatung spre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Hilfe beim SSC suchen (z.B. Urlaubssemester bei Krankheit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s ist nie so schlimm wie es einem im ersten Moment erscheinen m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In einzelnen Fällen kann zum Beispiel der Prüfungsausschuss eine alter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ungsform (z.B. mündlich) oder sonstige Modalitäten erlau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8424720" cy="100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Leistungsnachw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160" y="2075040"/>
            <a:ext cx="532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chriftliche Prüfung (Klausur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Die meisten Prüf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Praktische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ogrammieren 1 un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Mündliche Prüfung / Fachgesprä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oftware Engineering, S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eminarvortrag, Referat, Prä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SuK, Begleitveranstaltung Praxi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Rück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7720" y="2432160"/>
            <a:ext cx="851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ückmelden mit Strafgebü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ch nach der Kulanzz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Sicherstellen, dass OBS-Zugang funktion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ine fehlende Rückmeldung kann bis zur Zwangsexmatrikulation führen, jed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erhält man von der Hochschule vorher noch Mahn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4508640"/>
            <a:ext cx="8424720" cy="79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beleg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280" y="2432160"/>
            <a:ext cx="8138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Restplatzbelegung wah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orlesungsveranstaltungen: kein Problem, einfach besu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Veranstaltung mit Praktikum: in die erste Vorlesung gehen und Dozent um Platz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prüfungsan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6360" y="2432160"/>
            <a:ext cx="844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eine Chance! Eventuell Prüfer höflich b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Wichtig ist wirklich das höflich dabei. Es liegt im absoluten Ermäßen des Prü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noch Gnade vor Recht walten zu 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6000" y="3419640"/>
            <a:ext cx="8424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Online Prüfungsabmeldung verg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440" y="2432160"/>
            <a:ext cx="56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eine Chance. Wirk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Teilnehmen und sich wenigstens die Klausur ans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ote falsch oder fehlt im 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5080" y="2432160"/>
            <a:ext cx="557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ommilitonen fragen, ob Note bei ihnen einge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er benachrich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4 Wochenfrist für Notenkorrektur übersch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640" y="2432160"/>
            <a:ext cx="567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üfer benachrichtigen (Vielleicht fehlt sie ja auch nur)</a:t>
            </a: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kanat und Fachschaft benachricht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Letzter Versuch Prüfungsleistung miss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9600" y="2432160"/>
            <a:ext cx="832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Klausur: Termin für mündliche Ergänzungsprüfung bei Prüfer erf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Praktische Prüfung: Schnell exmatrikulieren bevor Zwangsexmatri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ündliche Prüfung: Schnell exmatrikulieren bevor Zwangsexmatri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r letzte Versuch sollte niemals zu leicht auf die Schulter genom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uf 4,0 zu lernen ist hierbei Suiz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4148280"/>
            <a:ext cx="8424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Erste Hilfe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gleichbehandlung bei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5200" y="2432160"/>
            <a:ext cx="7932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Gespräch mit studentischem Studienber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Antrag auf Wiederholung der Prüfungsleistung bei Prüfungsausschuss stellen</a:t>
            </a:r>
            <a:br>
              <a:rPr sz="1600"/>
            </a:b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mit Beschreibung des Vorf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Der Vorfall muss sofort gemel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Beispie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Hilfsmittel innerhalb einer Prü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Zeit zur 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Unterschiedliche Benotung bei gleichwertigen Antwo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292929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645000"/>
            <a:ext cx="8424720" cy="230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Arten der Beno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5360" y="2075040"/>
            <a:ext cx="6567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Folgende Noten sind für Leistungsnachweis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2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4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797360"/>
            <a:ext cx="561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ndnote (auf dem Zeugnis) ist Einstellig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inere Angaben werden abgeschnitten (2,57 ergibt eine 2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ach einer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00" y="2075040"/>
            <a:ext cx="767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Bestanden (Note &lt;= 4.0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iederholung n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Bestanden (Note &gt; 4.0)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Prüfung kann zwei mal wiederhol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Wiederholung spätestens im darauf folgenden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Letzter Versuch fehlgeschlagen </a:t>
            </a:r>
            <a:r>
              <a:rPr b="0" lang="de-DE" sz="20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Zwangsexmatrik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5013360"/>
            <a:ext cx="741672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usnahmefall Schriftliche Prüfung (Klausur)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Nach dem letzten Versuch findet eine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ündliche Ergänzungsprüfun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stat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ese stellt fest, ob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reichende (4.0) Kenntniss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doch vorhanden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e mündliche Ergänzungsprüfung findet innerhalb 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sten acht Wochen nach der Prüfun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stat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0"/>
            <a:ext cx="6443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292929"/>
                </a:solidFill>
                <a:latin typeface="Verdana"/>
              </a:rPr>
              <a:t>Allgemeine Bestimmungen</a:t>
            </a:r>
            <a:br>
              <a:rPr sz="3200"/>
            </a:b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be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00" y="2075040"/>
            <a:ext cx="737964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Nicht ausreichende Leis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Unentschuldigtes Fehlen an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Ausnahme: Nicht selbstverschuldetes Fernbleiben (Krankheit,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verspätete Bahn). Gründe sofort dem Prüfungsausschuss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glaubhaft darlegen! Verkehrsbedingtes Fehlen (Stau, Panne, </a:t>
            </a:r>
            <a:br>
              <a:rPr sz="1800"/>
            </a:br>
            <a:r>
              <a:rPr b="0" lang="de-DE" sz="1800" spc="-1" strike="noStrike">
                <a:solidFill>
                  <a:srgbClr val="292929"/>
                </a:solidFill>
                <a:latin typeface="Verdana"/>
                <a:ea typeface="DejaVu Sans"/>
              </a:rPr>
              <a:t>etc.) zählt nicht!</a:t>
            </a:r>
            <a:r>
              <a:rPr b="0" lang="de-DE" sz="2000" spc="-1" strike="noStrike">
                <a:solidFill>
                  <a:srgbClr val="292929"/>
                </a:solidFill>
                <a:latin typeface="Verdana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äus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Störung des ordnungsgemäßen Ablaufes der 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Verdana"/>
              </a:rPr>
              <a:t>Tipp: Nicht auf 4.0 lern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Hauth</dc:creator>
  <dc:description/>
  <dc:language>en-US</dc:language>
  <cp:lastModifiedBy>Jens Weibler</cp:lastModifiedBy>
  <cp:revision>0</cp:revision>
  <dc:subject/>
  <dc:title>Erstsemestereinführung Wintersemester 06/07</dc:title>
</cp:coreProperties>
</file>